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FF5B-DC6D-41E5-8DAF-2732A7A97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FAC6-B3D5-4F10-AF72-9C9802CE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FD2C-0B48-488A-9ED0-55A03ED1B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29A4-5822-4E4D-BBA9-0B0174EF0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6A17-332B-4966-9556-7859966EA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499C-2913-4FE0-9B61-89CEE686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E055-4B95-4BA7-98D0-7008FB34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62C6-5DAE-4D59-9977-F4E5EC76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A282-6E02-474C-ACD8-ADD3694B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2520-CE13-4BC0-9F6C-41F79D43A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CBBA-7228-4E88-AFB8-7E9508FC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11E4-0B2A-4FB9-A0D5-79E94B43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3379-5BA8-4D6A-AF7E-D65AB86A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D1AE-C3E0-4B03-BE9A-3F53839B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A3D4-1012-4D3C-B429-AB2D36C6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1818-B9D9-43FD-A3B0-DB14B6623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CD0D-D906-4935-94CC-DA9A081C4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B267-3A6A-4855-B4C9-E1BFD12F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6782-0E2E-4EB9-8A19-D2FD5C5F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3BC4-D451-4D0D-9E77-FA2ACCF9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744C-9F76-4567-88DE-3F5AC708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C890-AA59-435B-98EC-6EC734FD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F4F1-5A5B-4A1C-9873-7882C70F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2954-8049-4DFC-AB3A-D2C878E1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82FC-646E-4ACF-88EF-21675C9804CF}" type="slidenum"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77E8-6059-414C-90BB-E3B7FD8B3E32}" type="slidenum"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b7"/>
                </a:solidFill>
                <a:latin typeface="Arial Black"/>
              </a:rPr>
              <a:t>Asociación de productores de mole de San Pedro Actopa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99640" y="4365720"/>
            <a:ext cx="6782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Milpa Alta, D.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na asociación que traba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824400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previousslide"/>
          </p:cNvPr>
          <p:cNvSpPr/>
          <p:nvPr/>
        </p:nvSpPr>
        <p:spPr>
          <a:xfrm>
            <a:off x="6804000" y="6237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6462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745164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14418" y="3837"/>
                </a:moveTo>
                <a:lnTo>
                  <a:pt x="16994" y="6448"/>
                </a:ln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lnTo>
                  <a:pt x="21381" y="10800"/>
                </a:lnTo>
                <a:lnTo>
                  <a:pt x="19727" y="10800"/>
                </a:lnTo>
                <a:lnTo>
                  <a:pt x="19727" y="17989"/>
                </a:lnTo>
                <a:lnTo>
                  <a:pt x="9109" y="17989"/>
                </a:lnTo>
                <a:lnTo>
                  <a:pt x="9109" y="10800"/>
                </a:lnTo>
                <a:lnTo>
                  <a:pt x="7455" y="10800"/>
                </a:lnTo>
                <a:close/>
              </a:path>
              <a:path fill="darkenLess" w="28836" h="21600">
                <a:moveTo>
                  <a:pt x="16994" y="6448"/>
                </a:move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close/>
              </a:path>
              <a:path fill="darkenLess" w="28836" h="21600">
                <a:moveTo>
                  <a:pt x="13495" y="14299"/>
                </a:moveTo>
                <a:lnTo>
                  <a:pt x="15341" y="14299"/>
                </a:lnTo>
                <a:lnTo>
                  <a:pt x="15341" y="17989"/>
                </a:lnTo>
                <a:lnTo>
                  <a:pt x="19727" y="17989"/>
                </a:lnTo>
                <a:lnTo>
                  <a:pt x="19727" y="10800"/>
                </a:lnTo>
                <a:lnTo>
                  <a:pt x="9109" y="10800"/>
                </a:lnTo>
                <a:lnTo>
                  <a:pt x="9109" y="17989"/>
                </a:lnTo>
                <a:lnTo>
                  <a:pt x="13495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1116000" y="3241440"/>
            <a:ext cx="7343280" cy="1338480"/>
            <a:chOff x="1116000" y="3241440"/>
            <a:chExt cx="7343280" cy="1338480"/>
          </a:xfrm>
        </p:grpSpPr>
        <p:cxnSp>
          <p:nvCxnSpPr>
            <p:cNvPr id="188" name="_s2062"/>
            <p:cNvCxnSpPr>
              <a:stCxn id="189" idx="0"/>
              <a:endCxn id="190" idx="2"/>
            </p:cNvCxnSpPr>
            <p:nvPr/>
          </p:nvCxnSpPr>
          <p:spPr>
            <a:xfrm flipV="1" rot="16200000">
              <a:off x="5938560" y="2667600"/>
              <a:ext cx="183960" cy="2486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1" name="_s2063"/>
            <p:cNvCxnSpPr>
              <a:stCxn id="192" idx="0"/>
              <a:endCxn id="190" idx="2"/>
            </p:cNvCxnSpPr>
            <p:nvPr/>
          </p:nvCxnSpPr>
          <p:spPr>
            <a:xfrm flipV="1">
              <a:off x="4788000" y="3818880"/>
              <a:ext cx="1440" cy="183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3" name="_s2064"/>
            <p:cNvCxnSpPr>
              <a:stCxn id="194" idx="0"/>
              <a:endCxn id="190" idx="2"/>
            </p:cNvCxnSpPr>
            <p:nvPr/>
          </p:nvCxnSpPr>
          <p:spPr>
            <a:xfrm flipH="1" flipV="1" rot="5400000">
              <a:off x="3452760" y="2667600"/>
              <a:ext cx="183960" cy="2486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90" name="_s2065"/>
            <p:cNvSpPr/>
            <p:nvPr/>
          </p:nvSpPr>
          <p:spPr>
            <a:xfrm>
              <a:off x="3721320" y="3241440"/>
              <a:ext cx="2133360" cy="5781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280" rIns="2628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8000"/>
                  </a:solidFill>
                  <a:latin typeface="Arial"/>
                </a:rPr>
                <a:t>Presiden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8000"/>
                  </a:solidFill>
                  <a:latin typeface="Arial"/>
                </a:rPr>
                <a:t>Pascasiano Gómez</a:t>
              </a:r>
              <a:r>
                <a:rPr b="0" lang="es-ES_tradn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_s2066"/>
            <p:cNvSpPr/>
            <p:nvPr/>
          </p:nvSpPr>
          <p:spPr>
            <a:xfrm>
              <a:off x="1116000" y="4003200"/>
              <a:ext cx="2371320" cy="5767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280" rIns="2628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8000"/>
                  </a:solidFill>
                  <a:latin typeface="Arial"/>
                </a:rPr>
                <a:t>Tesorer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8000"/>
                  </a:solidFill>
                  <a:latin typeface="Arial"/>
                </a:rPr>
                <a:t>Florentina López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_s2067"/>
            <p:cNvSpPr/>
            <p:nvPr/>
          </p:nvSpPr>
          <p:spPr>
            <a:xfrm>
              <a:off x="3601800" y="4003200"/>
              <a:ext cx="2371320" cy="5767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280" rIns="2628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8000"/>
                  </a:solidFill>
                  <a:latin typeface="Arial"/>
                </a:rPr>
                <a:t>Secretari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8000"/>
                  </a:solidFill>
                  <a:latin typeface="Arial"/>
                </a:rPr>
                <a:t>Asunción Martínez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_s2068"/>
            <p:cNvSpPr/>
            <p:nvPr/>
          </p:nvSpPr>
          <p:spPr>
            <a:xfrm>
              <a:off x="6087960" y="4003200"/>
              <a:ext cx="2371320" cy="5767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280" rIns="2628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8000"/>
                  </a:solidFill>
                  <a:latin typeface="Arial"/>
                </a:rPr>
                <a:t>Voc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8000"/>
                  </a:solidFill>
                  <a:latin typeface="Arial"/>
                </a:rPr>
                <a:t>Rosenda Flor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485000" y="1066680"/>
            <a:ext cx="6407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Consejo directiv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sociación de productores de San Pedro Actopan A.C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>
            <a:hlinkClick r:id="" action="ppaction://hlinkshowjump?jump=nextslide"/>
          </p:cNvPr>
          <p:cNvSpPr/>
          <p:nvPr/>
        </p:nvSpPr>
        <p:spPr>
          <a:xfrm>
            <a:off x="824400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>
            <a:hlinkClick r:id="" action="ppaction://hlinkshowjump?jump=previousslide"/>
          </p:cNvPr>
          <p:cNvSpPr/>
          <p:nvPr/>
        </p:nvSpPr>
        <p:spPr>
          <a:xfrm>
            <a:off x="6804000" y="6237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6462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>
            <a:hlinkClick r:id="" action="ppaction://hlinkshowjump?jump=firstslide"/>
          </p:cNvPr>
          <p:cNvSpPr/>
          <p:nvPr/>
        </p:nvSpPr>
        <p:spPr>
          <a:xfrm>
            <a:off x="745164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14418" y="3837"/>
                </a:moveTo>
                <a:lnTo>
                  <a:pt x="16994" y="6448"/>
                </a:ln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lnTo>
                  <a:pt x="21381" y="10800"/>
                </a:lnTo>
                <a:lnTo>
                  <a:pt x="19727" y="10800"/>
                </a:lnTo>
                <a:lnTo>
                  <a:pt x="19727" y="17989"/>
                </a:lnTo>
                <a:lnTo>
                  <a:pt x="9109" y="17989"/>
                </a:lnTo>
                <a:lnTo>
                  <a:pt x="9109" y="10800"/>
                </a:lnTo>
                <a:lnTo>
                  <a:pt x="7455" y="10800"/>
                </a:lnTo>
                <a:close/>
              </a:path>
              <a:path fill="darkenLess" w="28836" h="21600">
                <a:moveTo>
                  <a:pt x="16994" y="6448"/>
                </a:move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close/>
              </a:path>
              <a:path fill="darkenLess" w="28836" h="21600">
                <a:moveTo>
                  <a:pt x="13495" y="14299"/>
                </a:moveTo>
                <a:lnTo>
                  <a:pt x="15341" y="14299"/>
                </a:lnTo>
                <a:lnTo>
                  <a:pt x="15341" y="17989"/>
                </a:lnTo>
                <a:lnTo>
                  <a:pt x="19727" y="17989"/>
                </a:lnTo>
                <a:lnTo>
                  <a:pt x="19727" y="10800"/>
                </a:lnTo>
                <a:lnTo>
                  <a:pt x="9109" y="10800"/>
                </a:lnTo>
                <a:lnTo>
                  <a:pt x="9109" y="17989"/>
                </a:lnTo>
                <a:lnTo>
                  <a:pt x="13495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>
            <a:hlinkClick r:id="" action="ppaction://hlinkshowjump?jump=previousslide"/>
          </p:cNvPr>
          <p:cNvSpPr/>
          <p:nvPr/>
        </p:nvSpPr>
        <p:spPr>
          <a:xfrm>
            <a:off x="6804000" y="6237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6462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>
            <a:hlinkClick r:id="" action="ppaction://hlinkshowjump?jump=firstslide"/>
          </p:cNvPr>
          <p:cNvSpPr/>
          <p:nvPr/>
        </p:nvSpPr>
        <p:spPr>
          <a:xfrm>
            <a:off x="745164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14418" y="3837"/>
                </a:moveTo>
                <a:lnTo>
                  <a:pt x="16994" y="6448"/>
                </a:ln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lnTo>
                  <a:pt x="21381" y="10800"/>
                </a:lnTo>
                <a:lnTo>
                  <a:pt x="19727" y="10800"/>
                </a:lnTo>
                <a:lnTo>
                  <a:pt x="19727" y="17989"/>
                </a:lnTo>
                <a:lnTo>
                  <a:pt x="9109" y="17989"/>
                </a:lnTo>
                <a:lnTo>
                  <a:pt x="9109" y="10800"/>
                </a:lnTo>
                <a:lnTo>
                  <a:pt x="7455" y="10800"/>
                </a:lnTo>
                <a:close/>
              </a:path>
              <a:path fill="darkenLess" w="28836" h="21600">
                <a:moveTo>
                  <a:pt x="16994" y="6448"/>
                </a:move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close/>
              </a:path>
              <a:path fill="darkenLess" w="28836" h="21600">
                <a:moveTo>
                  <a:pt x="13495" y="14299"/>
                </a:moveTo>
                <a:lnTo>
                  <a:pt x="15341" y="14299"/>
                </a:lnTo>
                <a:lnTo>
                  <a:pt x="15341" y="17989"/>
                </a:lnTo>
                <a:lnTo>
                  <a:pt x="19727" y="17989"/>
                </a:lnTo>
                <a:lnTo>
                  <a:pt x="19727" y="10800"/>
                </a:lnTo>
                <a:lnTo>
                  <a:pt x="9109" y="10800"/>
                </a:lnTo>
                <a:lnTo>
                  <a:pt x="9109" y="17989"/>
                </a:lnTo>
                <a:lnTo>
                  <a:pt x="13495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17080" y="6237360"/>
            <a:ext cx="50292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0" y="2852640"/>
            <a:ext cx="4392720" cy="3240360"/>
          </a:xfrm>
          <a:prstGeom prst="rect">
            <a:avLst/>
          </a:prstGeom>
          <a:solidFill>
            <a:srgbClr val="99cc00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2852640"/>
            <a:ext cx="3745080" cy="3241800"/>
          </a:xfrm>
          <a:prstGeom prst="rect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04840" y="3429000"/>
            <a:ext cx="2863800" cy="2141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56000" y="765000"/>
            <a:ext cx="3671640" cy="1632240"/>
          </a:xfrm>
          <a:custGeom>
            <a:avLst/>
            <a:gdLst>
              <a:gd name="textAreaLeft" fmla="*/ 0 w 3671640"/>
              <a:gd name="textAreaRight" fmla="*/ 3672000 w 3671640"/>
              <a:gd name="textAreaTop" fmla="*/ 211320 h 1632240"/>
              <a:gd name="textAreaBottom" fmla="*/ 1420920 h 16322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21440" y="1268280"/>
            <a:ext cx="14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00"/>
                </a:solidFill>
                <a:latin typeface="Arial"/>
              </a:rPr>
              <a:t>El m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788000" y="3357720"/>
            <a:ext cx="3975120" cy="2371680"/>
          </a:xfrm>
          <a:prstGeom prst="rect">
            <a:avLst/>
          </a:prstGeom>
          <a:ln w="0">
            <a:noFill/>
          </a:ln>
        </p:spPr>
      </p:pic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824400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6804000" y="6237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6462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745164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14418" y="3837"/>
                </a:moveTo>
                <a:lnTo>
                  <a:pt x="16994" y="6448"/>
                </a:ln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lnTo>
                  <a:pt x="21381" y="10800"/>
                </a:lnTo>
                <a:lnTo>
                  <a:pt x="19727" y="10800"/>
                </a:lnTo>
                <a:lnTo>
                  <a:pt x="19727" y="17989"/>
                </a:lnTo>
                <a:lnTo>
                  <a:pt x="9109" y="17989"/>
                </a:lnTo>
                <a:lnTo>
                  <a:pt x="9109" y="10800"/>
                </a:lnTo>
                <a:lnTo>
                  <a:pt x="7455" y="10800"/>
                </a:lnTo>
                <a:close/>
              </a:path>
              <a:path fill="darkenLess" w="28836" h="21600">
                <a:moveTo>
                  <a:pt x="16994" y="6448"/>
                </a:move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close/>
              </a:path>
              <a:path fill="darkenLess" w="28836" h="21600">
                <a:moveTo>
                  <a:pt x="13495" y="14299"/>
                </a:moveTo>
                <a:lnTo>
                  <a:pt x="15341" y="14299"/>
                </a:lnTo>
                <a:lnTo>
                  <a:pt x="15341" y="17989"/>
                </a:lnTo>
                <a:lnTo>
                  <a:pt x="19727" y="17989"/>
                </a:lnTo>
                <a:lnTo>
                  <a:pt x="19727" y="10800"/>
                </a:lnTo>
                <a:lnTo>
                  <a:pt x="9109" y="10800"/>
                </a:lnTo>
                <a:lnTo>
                  <a:pt x="9109" y="17989"/>
                </a:lnTo>
                <a:lnTo>
                  <a:pt x="13495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El mole mexican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na comida mexicana reconocida mundialme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Los más famosos: el mole poblano y el mole negro de Oaxa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l mole existe desde la época prehispánica y existen muchas varie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824400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6804000" y="6237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6462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745164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14418" y="3837"/>
                </a:moveTo>
                <a:lnTo>
                  <a:pt x="16994" y="6448"/>
                </a:ln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lnTo>
                  <a:pt x="21381" y="10800"/>
                </a:lnTo>
                <a:lnTo>
                  <a:pt x="19727" y="10800"/>
                </a:lnTo>
                <a:lnTo>
                  <a:pt x="19727" y="17989"/>
                </a:lnTo>
                <a:lnTo>
                  <a:pt x="9109" y="17989"/>
                </a:lnTo>
                <a:lnTo>
                  <a:pt x="9109" y="10800"/>
                </a:lnTo>
                <a:lnTo>
                  <a:pt x="7455" y="10800"/>
                </a:lnTo>
                <a:close/>
              </a:path>
              <a:path fill="darkenLess" w="28836" h="21600">
                <a:moveTo>
                  <a:pt x="16994" y="6448"/>
                </a:move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close/>
              </a:path>
              <a:path fill="darkenLess" w="28836" h="21600">
                <a:moveTo>
                  <a:pt x="13495" y="14299"/>
                </a:moveTo>
                <a:lnTo>
                  <a:pt x="15341" y="14299"/>
                </a:lnTo>
                <a:lnTo>
                  <a:pt x="15341" y="17989"/>
                </a:lnTo>
                <a:lnTo>
                  <a:pt x="19727" y="17989"/>
                </a:lnTo>
                <a:lnTo>
                  <a:pt x="19727" y="10800"/>
                </a:lnTo>
                <a:lnTo>
                  <a:pt x="9109" y="10800"/>
                </a:lnTo>
                <a:lnTo>
                  <a:pt x="9109" y="17989"/>
                </a:lnTo>
                <a:lnTo>
                  <a:pt x="13495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Los ingredientes del mole poblan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327400" y="2286000"/>
            <a:ext cx="4191120" cy="4189320"/>
            <a:chOff x="2327400" y="2286000"/>
            <a:chExt cx="4191120" cy="4189320"/>
          </a:xfrm>
        </p:grpSpPr>
        <p:sp>
          <p:nvSpPr>
            <p:cNvPr id="119" name="_s29719"/>
            <p:cNvSpPr/>
            <p:nvPr/>
          </p:nvSpPr>
          <p:spPr>
            <a:xfrm flipH="1" flipV="1">
              <a:off x="3682800" y="3639960"/>
              <a:ext cx="369720" cy="371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_s29718"/>
            <p:cNvSpPr/>
            <p:nvPr/>
          </p:nvSpPr>
          <p:spPr>
            <a:xfrm>
              <a:off x="2787840" y="2744640"/>
              <a:ext cx="1047600" cy="1047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Pollo 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puerc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_s29713"/>
            <p:cNvSpPr/>
            <p:nvPr/>
          </p:nvSpPr>
          <p:spPr>
            <a:xfrm flipH="1">
              <a:off x="3376440" y="4379760"/>
              <a:ext cx="52380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_s29712"/>
            <p:cNvSpPr/>
            <p:nvPr/>
          </p:nvSpPr>
          <p:spPr>
            <a:xfrm>
              <a:off x="2327400" y="3855960"/>
              <a:ext cx="1047600" cy="10476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Chocola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_s29717"/>
            <p:cNvSpPr/>
            <p:nvPr/>
          </p:nvSpPr>
          <p:spPr>
            <a:xfrm flipH="1">
              <a:off x="3683160" y="4751280"/>
              <a:ext cx="371520" cy="368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_s29716"/>
            <p:cNvSpPr/>
            <p:nvPr/>
          </p:nvSpPr>
          <p:spPr>
            <a:xfrm>
              <a:off x="2787840" y="4967280"/>
              <a:ext cx="1047600" cy="10476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Chil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chipot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_s29715"/>
            <p:cNvSpPr/>
            <p:nvPr/>
          </p:nvSpPr>
          <p:spPr>
            <a:xfrm>
              <a:off x="4422960" y="4903560"/>
              <a:ext cx="1440" cy="522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_s29714"/>
            <p:cNvSpPr/>
            <p:nvPr/>
          </p:nvSpPr>
          <p:spPr>
            <a:xfrm>
              <a:off x="3899160" y="5427720"/>
              <a:ext cx="1047600" cy="10476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Chil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anch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_s29711"/>
            <p:cNvSpPr/>
            <p:nvPr/>
          </p:nvSpPr>
          <p:spPr>
            <a:xfrm>
              <a:off x="4794480" y="4749840"/>
              <a:ext cx="368280" cy="369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_s29710"/>
            <p:cNvSpPr/>
            <p:nvPr/>
          </p:nvSpPr>
          <p:spPr>
            <a:xfrm>
              <a:off x="5010120" y="4967280"/>
              <a:ext cx="1047960" cy="10476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Chil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pasill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_s29708"/>
            <p:cNvSpPr/>
            <p:nvPr/>
          </p:nvSpPr>
          <p:spPr>
            <a:xfrm>
              <a:off x="4946760" y="4379760"/>
              <a:ext cx="522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_s29707"/>
            <p:cNvSpPr/>
            <p:nvPr/>
          </p:nvSpPr>
          <p:spPr>
            <a:xfrm>
              <a:off x="5470560" y="3855960"/>
              <a:ext cx="1047960" cy="10476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Almendr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_s29706"/>
            <p:cNvSpPr/>
            <p:nvPr/>
          </p:nvSpPr>
          <p:spPr>
            <a:xfrm flipV="1">
              <a:off x="4792680" y="3639960"/>
              <a:ext cx="370080" cy="370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_s29705"/>
            <p:cNvSpPr/>
            <p:nvPr/>
          </p:nvSpPr>
          <p:spPr>
            <a:xfrm>
              <a:off x="5010120" y="2744640"/>
              <a:ext cx="1047960" cy="1047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Tortill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frit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29704"/>
            <p:cNvSpPr/>
            <p:nvPr/>
          </p:nvSpPr>
          <p:spPr>
            <a:xfrm flipV="1">
              <a:off x="4422960" y="3333240"/>
              <a:ext cx="0" cy="523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_s29703"/>
            <p:cNvSpPr/>
            <p:nvPr/>
          </p:nvSpPr>
          <p:spPr>
            <a:xfrm>
              <a:off x="3899160" y="2286000"/>
              <a:ext cx="1047600" cy="10476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ul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_s29702"/>
            <p:cNvSpPr/>
            <p:nvPr/>
          </p:nvSpPr>
          <p:spPr>
            <a:xfrm>
              <a:off x="3899160" y="3857400"/>
              <a:ext cx="1047600" cy="1047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ol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poblan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824400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previousslide"/>
          </p:cNvPr>
          <p:cNvSpPr/>
          <p:nvPr/>
        </p:nvSpPr>
        <p:spPr>
          <a:xfrm>
            <a:off x="6804000" y="6237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6462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745164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14418" y="3837"/>
                </a:moveTo>
                <a:lnTo>
                  <a:pt x="16994" y="6448"/>
                </a:ln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lnTo>
                  <a:pt x="21381" y="10800"/>
                </a:lnTo>
                <a:lnTo>
                  <a:pt x="19727" y="10800"/>
                </a:lnTo>
                <a:lnTo>
                  <a:pt x="19727" y="17989"/>
                </a:lnTo>
                <a:lnTo>
                  <a:pt x="9109" y="17989"/>
                </a:lnTo>
                <a:lnTo>
                  <a:pt x="9109" y="10800"/>
                </a:lnTo>
                <a:lnTo>
                  <a:pt x="7455" y="10800"/>
                </a:lnTo>
                <a:close/>
              </a:path>
              <a:path fill="darkenLess" w="28836" h="21600">
                <a:moveTo>
                  <a:pt x="16994" y="6448"/>
                </a:move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close/>
              </a:path>
              <a:path fill="darkenLess" w="28836" h="21600">
                <a:moveTo>
                  <a:pt x="13495" y="14299"/>
                </a:moveTo>
                <a:lnTo>
                  <a:pt x="15341" y="14299"/>
                </a:lnTo>
                <a:lnTo>
                  <a:pt x="15341" y="17989"/>
                </a:lnTo>
                <a:lnTo>
                  <a:pt x="19727" y="17989"/>
                </a:lnTo>
                <a:lnTo>
                  <a:pt x="19727" y="10800"/>
                </a:lnTo>
                <a:lnTo>
                  <a:pt x="9109" y="10800"/>
                </a:lnTo>
                <a:lnTo>
                  <a:pt x="9109" y="17989"/>
                </a:lnTo>
                <a:lnTo>
                  <a:pt x="13495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Los ingredientes del mole negr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514600" y="2286000"/>
            <a:ext cx="4141800" cy="4092480"/>
            <a:chOff x="2514600" y="2286000"/>
            <a:chExt cx="4141800" cy="4092480"/>
          </a:xfrm>
        </p:grpSpPr>
        <p:sp>
          <p:nvSpPr>
            <p:cNvPr id="141" name="_s33817"/>
            <p:cNvSpPr/>
            <p:nvPr/>
          </p:nvSpPr>
          <p:spPr>
            <a:xfrm flipH="1" flipV="1">
              <a:off x="3844800" y="3499920"/>
              <a:ext cx="439560" cy="520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33816"/>
            <p:cNvSpPr/>
            <p:nvPr/>
          </p:nvSpPr>
          <p:spPr>
            <a:xfrm>
              <a:off x="3070440" y="2665440"/>
              <a:ext cx="944640" cy="9446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Ceboll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_s33804"/>
            <p:cNvSpPr/>
            <p:nvPr/>
          </p:nvSpPr>
          <p:spPr>
            <a:xfrm flipH="1" flipV="1">
              <a:off x="3452760" y="4181400"/>
              <a:ext cx="671760" cy="117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_s33803"/>
            <p:cNvSpPr/>
            <p:nvPr/>
          </p:nvSpPr>
          <p:spPr>
            <a:xfrm>
              <a:off x="2514600" y="3627360"/>
              <a:ext cx="944640" cy="9446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pasill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_s33813"/>
            <p:cNvSpPr/>
            <p:nvPr/>
          </p:nvSpPr>
          <p:spPr>
            <a:xfrm flipH="1">
              <a:off x="3589560" y="4614840"/>
              <a:ext cx="590400" cy="341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_s33812"/>
            <p:cNvSpPr/>
            <p:nvPr/>
          </p:nvSpPr>
          <p:spPr>
            <a:xfrm>
              <a:off x="2708280" y="4721040"/>
              <a:ext cx="944640" cy="9446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antec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cerd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_s33815"/>
            <p:cNvSpPr/>
            <p:nvPr/>
          </p:nvSpPr>
          <p:spPr>
            <a:xfrm flipH="1">
              <a:off x="4192200" y="4821120"/>
              <a:ext cx="233640" cy="639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_s33814"/>
            <p:cNvSpPr/>
            <p:nvPr/>
          </p:nvSpPr>
          <p:spPr>
            <a:xfrm>
              <a:off x="3559320" y="5433840"/>
              <a:ext cx="944640" cy="9446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Jitomate y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toma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_s33811"/>
            <p:cNvSpPr/>
            <p:nvPr/>
          </p:nvSpPr>
          <p:spPr>
            <a:xfrm>
              <a:off x="4746600" y="4821120"/>
              <a:ext cx="233640" cy="639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_s33810"/>
            <p:cNvSpPr/>
            <p:nvPr/>
          </p:nvSpPr>
          <p:spPr>
            <a:xfrm>
              <a:off x="4668840" y="5433840"/>
              <a:ext cx="944640" cy="9446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Ajonjol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Condimen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t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_s33809"/>
            <p:cNvSpPr/>
            <p:nvPr/>
          </p:nvSpPr>
          <p:spPr>
            <a:xfrm>
              <a:off x="4992840" y="4614840"/>
              <a:ext cx="590400" cy="339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_s33808"/>
            <p:cNvSpPr/>
            <p:nvPr/>
          </p:nvSpPr>
          <p:spPr>
            <a:xfrm>
              <a:off x="5519880" y="4719600"/>
              <a:ext cx="944640" cy="9446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Bolillo 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tortill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_s33807"/>
            <p:cNvSpPr/>
            <p:nvPr/>
          </p:nvSpPr>
          <p:spPr>
            <a:xfrm flipV="1">
              <a:off x="5048280" y="4177800"/>
              <a:ext cx="671760" cy="119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33806"/>
            <p:cNvSpPr/>
            <p:nvPr/>
          </p:nvSpPr>
          <p:spPr>
            <a:xfrm>
              <a:off x="5712120" y="3625920"/>
              <a:ext cx="944280" cy="944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Almendr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Y nue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_s33802"/>
            <p:cNvSpPr/>
            <p:nvPr/>
          </p:nvSpPr>
          <p:spPr>
            <a:xfrm flipV="1">
              <a:off x="4886280" y="3496680"/>
              <a:ext cx="438480" cy="522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_s33801"/>
            <p:cNvSpPr/>
            <p:nvPr/>
          </p:nvSpPr>
          <p:spPr>
            <a:xfrm>
              <a:off x="5156280" y="2665440"/>
              <a:ext cx="944640" cy="9446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Chocola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_s33800"/>
            <p:cNvSpPr/>
            <p:nvPr/>
          </p:nvSpPr>
          <p:spPr>
            <a:xfrm flipV="1">
              <a:off x="4584960" y="3228840"/>
              <a:ext cx="0" cy="681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_s33799"/>
            <p:cNvSpPr/>
            <p:nvPr/>
          </p:nvSpPr>
          <p:spPr>
            <a:xfrm>
              <a:off x="4113360" y="2286000"/>
              <a:ext cx="944640" cy="9446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Chilguat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_s33798"/>
            <p:cNvSpPr/>
            <p:nvPr/>
          </p:nvSpPr>
          <p:spPr>
            <a:xfrm>
              <a:off x="4113360" y="3909960"/>
              <a:ext cx="944640" cy="9446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ol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negr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824400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6804000" y="6237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6462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firstslide"/>
          </p:cNvPr>
          <p:cNvSpPr/>
          <p:nvPr/>
        </p:nvSpPr>
        <p:spPr>
          <a:xfrm>
            <a:off x="745164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14418" y="3837"/>
                </a:moveTo>
                <a:lnTo>
                  <a:pt x="16994" y="6448"/>
                </a:ln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lnTo>
                  <a:pt x="21381" y="10800"/>
                </a:lnTo>
                <a:lnTo>
                  <a:pt x="19727" y="10800"/>
                </a:lnTo>
                <a:lnTo>
                  <a:pt x="19727" y="17989"/>
                </a:lnTo>
                <a:lnTo>
                  <a:pt x="9109" y="17989"/>
                </a:lnTo>
                <a:lnTo>
                  <a:pt x="9109" y="10800"/>
                </a:lnTo>
                <a:lnTo>
                  <a:pt x="7455" y="10800"/>
                </a:lnTo>
                <a:close/>
              </a:path>
              <a:path fill="darkenLess" w="28836" h="21600">
                <a:moveTo>
                  <a:pt x="16994" y="6448"/>
                </a:move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close/>
              </a:path>
              <a:path fill="darkenLess" w="28836" h="21600">
                <a:moveTo>
                  <a:pt x="13495" y="14299"/>
                </a:moveTo>
                <a:lnTo>
                  <a:pt x="15341" y="14299"/>
                </a:lnTo>
                <a:lnTo>
                  <a:pt x="15341" y="17989"/>
                </a:lnTo>
                <a:lnTo>
                  <a:pt x="19727" y="17989"/>
                </a:lnTo>
                <a:lnTo>
                  <a:pt x="19727" y="10800"/>
                </a:lnTo>
                <a:lnTo>
                  <a:pt x="9109" y="10800"/>
                </a:lnTo>
                <a:lnTo>
                  <a:pt x="9109" y="17989"/>
                </a:lnTo>
                <a:lnTo>
                  <a:pt x="13495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183280" y="2133720"/>
            <a:ext cx="3960720" cy="25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El mole en San Pedro Actopa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Hay una importante producción de mole de primera cal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ada año se organiza su Feria del M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398920" y="2349360"/>
            <a:ext cx="3473640" cy="205920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824400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previousslide"/>
          </p:cNvPr>
          <p:cNvSpPr/>
          <p:nvPr/>
        </p:nvSpPr>
        <p:spPr>
          <a:xfrm>
            <a:off x="6804000" y="6237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6462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745164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14418" y="3837"/>
                </a:moveTo>
                <a:lnTo>
                  <a:pt x="16994" y="6448"/>
                </a:ln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lnTo>
                  <a:pt x="21381" y="10800"/>
                </a:lnTo>
                <a:lnTo>
                  <a:pt x="19727" y="10800"/>
                </a:lnTo>
                <a:lnTo>
                  <a:pt x="19727" y="17989"/>
                </a:lnTo>
                <a:lnTo>
                  <a:pt x="9109" y="17989"/>
                </a:lnTo>
                <a:lnTo>
                  <a:pt x="9109" y="10800"/>
                </a:lnTo>
                <a:lnTo>
                  <a:pt x="7455" y="10800"/>
                </a:lnTo>
                <a:close/>
              </a:path>
              <a:path fill="darkenLess" w="28836" h="21600">
                <a:moveTo>
                  <a:pt x="16994" y="6448"/>
                </a:move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close/>
              </a:path>
              <a:path fill="darkenLess" w="28836" h="21600">
                <a:moveTo>
                  <a:pt x="13495" y="14299"/>
                </a:moveTo>
                <a:lnTo>
                  <a:pt x="15341" y="14299"/>
                </a:lnTo>
                <a:lnTo>
                  <a:pt x="15341" y="17989"/>
                </a:lnTo>
                <a:lnTo>
                  <a:pt x="19727" y="17989"/>
                </a:lnTo>
                <a:lnTo>
                  <a:pt x="19727" y="10800"/>
                </a:lnTo>
                <a:lnTo>
                  <a:pt x="9109" y="10800"/>
                </a:lnTo>
                <a:lnTo>
                  <a:pt x="9109" y="17989"/>
                </a:lnTo>
                <a:lnTo>
                  <a:pt x="13495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124000" y="765000"/>
            <a:ext cx="5184720" cy="561672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84360" y="2781360"/>
            <a:ext cx="1990800" cy="25588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924360" y="1484280"/>
            <a:ext cx="2663640" cy="1081080"/>
          </a:xfrm>
          <a:prstGeom prst="wedgeRoundRectCallout">
            <a:avLst>
              <a:gd name="adj1" fmla="val -80810"/>
              <a:gd name="adj2" fmla="val 98750"/>
              <a:gd name="adj3" fmla="val 16667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oy haciendo un rico m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824400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previousslide"/>
          </p:cNvPr>
          <p:cNvSpPr/>
          <p:nvPr/>
        </p:nvSpPr>
        <p:spPr>
          <a:xfrm>
            <a:off x="6804000" y="6237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6462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firstslide"/>
          </p:cNvPr>
          <p:cNvSpPr/>
          <p:nvPr/>
        </p:nvSpPr>
        <p:spPr>
          <a:xfrm>
            <a:off x="745164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14418" y="3837"/>
                </a:moveTo>
                <a:lnTo>
                  <a:pt x="16994" y="6448"/>
                </a:ln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lnTo>
                  <a:pt x="21381" y="10800"/>
                </a:lnTo>
                <a:lnTo>
                  <a:pt x="19727" y="10800"/>
                </a:lnTo>
                <a:lnTo>
                  <a:pt x="19727" y="17989"/>
                </a:lnTo>
                <a:lnTo>
                  <a:pt x="9109" y="17989"/>
                </a:lnTo>
                <a:lnTo>
                  <a:pt x="9109" y="10800"/>
                </a:lnTo>
                <a:lnTo>
                  <a:pt x="7455" y="10800"/>
                </a:lnTo>
                <a:close/>
              </a:path>
              <a:path fill="darkenLess" w="28836" h="21600">
                <a:moveTo>
                  <a:pt x="16994" y="6448"/>
                </a:move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close/>
              </a:path>
              <a:path fill="darkenLess" w="28836" h="21600">
                <a:moveTo>
                  <a:pt x="13495" y="14299"/>
                </a:moveTo>
                <a:lnTo>
                  <a:pt x="15341" y="14299"/>
                </a:lnTo>
                <a:lnTo>
                  <a:pt x="15341" y="17989"/>
                </a:lnTo>
                <a:lnTo>
                  <a:pt x="19727" y="17989"/>
                </a:lnTo>
                <a:lnTo>
                  <a:pt x="19727" y="10800"/>
                </a:lnTo>
                <a:lnTo>
                  <a:pt x="9109" y="10800"/>
                </a:lnTo>
                <a:lnTo>
                  <a:pt x="9109" y="17989"/>
                </a:lnTo>
                <a:lnTo>
                  <a:pt x="13495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Nuestra asociació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Microempresas de tipo familia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roducción y comercialización de mo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rocedimientos e ingredientes tradicionales para conservar la cali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>
            <a:hlinkClick r:id="" action="ppaction://hlinkshowjump?jump=nextslide"/>
          </p:cNvPr>
          <p:cNvSpPr/>
          <p:nvPr/>
        </p:nvSpPr>
        <p:spPr>
          <a:xfrm>
            <a:off x="824400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>
            <a:hlinkClick r:id="" action="ppaction://hlinkshowjump?jump=previousslide"/>
          </p:cNvPr>
          <p:cNvSpPr/>
          <p:nvPr/>
        </p:nvSpPr>
        <p:spPr>
          <a:xfrm>
            <a:off x="6804000" y="6237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6462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745164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14418" y="3837"/>
                </a:moveTo>
                <a:lnTo>
                  <a:pt x="16994" y="6448"/>
                </a:ln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lnTo>
                  <a:pt x="21381" y="10800"/>
                </a:lnTo>
                <a:lnTo>
                  <a:pt x="19727" y="10800"/>
                </a:lnTo>
                <a:lnTo>
                  <a:pt x="19727" y="17989"/>
                </a:lnTo>
                <a:lnTo>
                  <a:pt x="9109" y="17989"/>
                </a:lnTo>
                <a:lnTo>
                  <a:pt x="9109" y="10800"/>
                </a:lnTo>
                <a:lnTo>
                  <a:pt x="7455" y="10800"/>
                </a:lnTo>
                <a:close/>
              </a:path>
              <a:path fill="darkenLess" w="28836" h="21600">
                <a:moveTo>
                  <a:pt x="16994" y="6448"/>
                </a:move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close/>
              </a:path>
              <a:path fill="darkenLess" w="28836" h="21600">
                <a:moveTo>
                  <a:pt x="13495" y="14299"/>
                </a:moveTo>
                <a:lnTo>
                  <a:pt x="15341" y="14299"/>
                </a:lnTo>
                <a:lnTo>
                  <a:pt x="15341" y="17989"/>
                </a:lnTo>
                <a:lnTo>
                  <a:pt x="19727" y="17989"/>
                </a:lnTo>
                <a:lnTo>
                  <a:pt x="19727" y="10800"/>
                </a:lnTo>
                <a:lnTo>
                  <a:pt x="9109" y="10800"/>
                </a:lnTo>
                <a:lnTo>
                  <a:pt x="9109" y="17989"/>
                </a:lnTo>
                <a:lnTo>
                  <a:pt x="13495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Nuestra asociació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766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omos 45 miembros con sus famili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Nos apoyamos para mejorar la producción y ven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omos una fuente muy importante de empleo en la regió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771640" y="6021360"/>
            <a:ext cx="3876840" cy="447840"/>
          </a:xfrm>
          <a:prstGeom prst="rect">
            <a:avLst/>
          </a:prstGeom>
          <a:ln w="0">
            <a:noFill/>
          </a:ln>
        </p:spPr>
      </p:pic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824400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>
            <a:hlinkClick r:id="" action="ppaction://hlinkshowjump?jump=previousslide"/>
          </p:cNvPr>
          <p:cNvSpPr/>
          <p:nvPr/>
        </p:nvSpPr>
        <p:spPr>
          <a:xfrm>
            <a:off x="6804000" y="6237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6462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745164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14418" y="3837"/>
                </a:moveTo>
                <a:lnTo>
                  <a:pt x="16994" y="6448"/>
                </a:ln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lnTo>
                  <a:pt x="21381" y="10800"/>
                </a:lnTo>
                <a:lnTo>
                  <a:pt x="19727" y="10800"/>
                </a:lnTo>
                <a:lnTo>
                  <a:pt x="19727" y="17989"/>
                </a:lnTo>
                <a:lnTo>
                  <a:pt x="9109" y="17989"/>
                </a:lnTo>
                <a:lnTo>
                  <a:pt x="9109" y="10800"/>
                </a:lnTo>
                <a:lnTo>
                  <a:pt x="7455" y="10800"/>
                </a:lnTo>
                <a:close/>
              </a:path>
              <a:path fill="darkenLess" w="28836" h="21600">
                <a:moveTo>
                  <a:pt x="16994" y="6448"/>
                </a:move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close/>
              </a:path>
              <a:path fill="darkenLess" w="28836" h="21600">
                <a:moveTo>
                  <a:pt x="13495" y="14299"/>
                </a:moveTo>
                <a:lnTo>
                  <a:pt x="15341" y="14299"/>
                </a:lnTo>
                <a:lnTo>
                  <a:pt x="15341" y="17989"/>
                </a:lnTo>
                <a:lnTo>
                  <a:pt x="19727" y="17989"/>
                </a:lnTo>
                <a:lnTo>
                  <a:pt x="19727" y="10800"/>
                </a:lnTo>
                <a:lnTo>
                  <a:pt x="9109" y="10800"/>
                </a:lnTo>
                <a:lnTo>
                  <a:pt x="9109" y="17989"/>
                </a:lnTo>
                <a:lnTo>
                  <a:pt x="13495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21:45:27Z</dcterms:created>
  <dc:creator>rocio</dc:creator>
  <dc:description/>
  <dc:language>en-US</dc:language>
  <cp:lastModifiedBy>rocio</cp:lastModifiedBy>
  <dcterms:modified xsi:type="dcterms:W3CDTF">2006-06-19T18:26:58Z</dcterms:modified>
  <cp:revision>15</cp:revision>
  <dc:subject/>
  <dc:title>Diapositiva 1</dc:title>
</cp:coreProperties>
</file>